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5101854"/>
        <c:axId val="54495108"/>
      </c:barChart>
      <c:catAx>
        <c:axId val="7510185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4495108"/>
        <c:crosses val="autoZero"/>
        <c:auto val="1"/>
        <c:lblAlgn val="ctr"/>
        <c:lblOffset val="100"/>
        <c:noMultiLvlLbl val="0"/>
      </c:catAx>
      <c:valAx>
        <c:axId val="5449510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510185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69AA-9C20-42EF-BF91-B1007136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735B-BDCA-4168-86D3-FC804BBC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0D9FE-6324-4CA7-8250-C87A8010E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6EEE3-D2B3-4AEF-9CFC-02A2C3AA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8DA73-F281-44BA-AC16-195C10F83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5C7D2-01F0-405F-A19D-78B4A07C9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44CE7-D879-40E5-AA4D-78CFF41AE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3508C-28ED-48AE-A510-E4297D4DE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AA480-5141-46B4-A3E0-4F2B0FDD3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8F3F4-89C2-4C2D-872F-764213426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0BD40-D39C-4730-B511-7C4E5BCC0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F059-3A9F-476B-AB16-1411E99F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E09BC-F34F-4ECF-9D30-74524D3BA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83CA7-AF97-4797-84A6-FC71681EE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0CBC3-066C-416D-822D-FC3F2DFB2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E573A-5B56-4111-871D-4C350388F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4216F-8B5E-4855-872A-F35FF633E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2652-4504-4F9A-AC35-9580A6076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1A9D-1BBA-4A7C-8B33-4D089BCC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B90A-2955-40AE-B9AC-9DEA1D233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98F1-8A83-40DD-98E0-438DD136C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30BA-80F1-426F-8288-212B4EC9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62D4-473A-4187-A47D-EC321D40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CE19-09A2-4726-93D2-DCC7AFDB2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0AA1F-BB97-432F-A7BE-CEC02C72211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463ACE-31BA-4BA6-A6CE-0035F4B994D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